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applause.wav" ContentType="audio/x-wav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8C71-5333-4D10-A4F1-8EA33AFEA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C58A-216F-465E-BFDD-2B021838D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725400"/>
            <a:ext cx="4552920" cy="34149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5960" y="4368960"/>
            <a:ext cx="5086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have been able to apply our approach in many diverse companies.  3 specific examples highlight the success of our proven method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2X is a well established company focused on relationship based application development and implementation support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of our offering is helping our customers manage relationships and streamline business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development team is impressive, and through the successful delivery of various focused solutions, we have developed 3 commercial grad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xperience has resulted in expertise in the following are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M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flow M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Devl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Sv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’ve been successful because our solutions are tailored, cost-effective and sca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many SFA/CRM applications that impose their workflow and overwhelm the end user with extraneous functionality, our approach is to develop very targeted solutions for our customer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unlike typical CRM applications, we can be deployed very quickly, resulting in immediate RO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d approach – digest the right am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4145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4145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040" y="4145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360" y="1700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0000" y="1700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4145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360" y="4145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0000" y="4145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219640" y="188640"/>
            <a:ext cx="3610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145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040" y="4145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145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70600"/>
            <a:chOff x="0" y="0"/>
            <a:chExt cx="9156600" cy="68706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56600" cy="6870600"/>
              <a:chOff x="0" y="0"/>
              <a:chExt cx="9156600" cy="6870600"/>
            </a:xfrm>
          </p:grpSpPr>
          <p:pic>
            <p:nvPicPr>
              <p:cNvPr id="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56600" cy="68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2556000" cy="12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260280"/>
                <a:ext cx="2016000" cy="773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7315200" y="6539040"/>
              <a:ext cx="182880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"/>
          <p:cNvSpPr/>
          <p:nvPr/>
        </p:nvSpPr>
        <p:spPr>
          <a:xfrm>
            <a:off x="37148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110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8436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cc99"/>
              </a:buClr>
              <a:buSzPct val="125000"/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"/>
          <p:cNvSpPr/>
          <p:nvPr/>
        </p:nvSpPr>
        <p:spPr>
          <a:xfrm>
            <a:off x="37148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229600" y="6110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8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9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hyperlink" Target="http://www.lexmark.com/" TargetMode="External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1.xml"/><Relationship Id="rId3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ACT! 3.0 For Notes R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urning Contacts Into Relationships and Relationships Into Resul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Copyright (C) 2002 – GL Computing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16360" y="2781360"/>
            <a:ext cx="110196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1284120" cy="1338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werful &amp; Integrated Schedulin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meetings, calls, and “to dos” for themselves or other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N calendar can automatically synchronize with the Notes Mail cale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apid Deployment &amp; Updat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ckly deployed to all local and remote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updates are easily distributed through the template refres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d Sales Operations &amp; IT Support Require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the Lotus Notes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implement, train and support a new technology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ptimized Replic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 the replication technology and procedures already being used by Notes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en to be more efficient and reliable than the synchronization functionality found in other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ase of Integration with other Applic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calable architecture can easily be integrated with other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1640" y="188640"/>
            <a:ext cx="4257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everage Lotus Notes Invest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181480" y="2666880"/>
          <a:ext cx="3962520" cy="35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666880"/>
                    <a:ext cx="3962520" cy="35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1413000"/>
            <a:ext cx="9144000" cy="45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N services available in Asia Pacific can benefit almost every enterprise regardless of size or the industry they ser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vailable Servic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492280"/>
            <a:ext cx="45352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ick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licatio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lication Integration and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Suitable Marke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447920"/>
            <a:ext cx="8553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y company with a mobile sales force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 excellent replication technology that suits users that may dial in from time to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y company with more than one offic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 replication, Access Control List, document-level security ideal for multi-offic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copy of the databases at their head office with local data only being replicated to the remote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y company running Lotus Notes for e-mail and/or databas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with the Notes calendar, address book and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directly with other Notes datab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data sharing and single point of entry fo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Typical Indust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809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surance and bankin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dware vendo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rtgage assuranc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nancial plannin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urier compani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ducational institu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otels and hotel chai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6520" y="1700280"/>
            <a:ext cx="38102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arger accounting practic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holesale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 compani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ufacturing compani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uilding compani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vernment department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743880" y="76320"/>
            <a:ext cx="2366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ample AFN Custom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24000" y="1413000"/>
            <a:ext cx="8670600" cy="4994280"/>
            <a:chOff x="324000" y="1413000"/>
            <a:chExt cx="8670600" cy="4994280"/>
          </a:xfrm>
        </p:grpSpPr>
        <p:graphicFrame>
          <p:nvGraphicFramePr>
            <p:cNvPr id="120" name=""/>
            <p:cNvGraphicFramePr/>
            <p:nvPr/>
          </p:nvGraphicFramePr>
          <p:xfrm>
            <a:off x="5715000" y="4495680"/>
            <a:ext cx="1181160" cy="4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4495680"/>
                      <a:ext cx="118116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>
            <a:off x="324000" y="4508640"/>
            <a:ext cx="1828800" cy="43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" y="4508640"/>
                      <a:ext cx="18288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4" name="" descr="The Hartford logo"/>
            <p:cNvPicPr/>
            <p:nvPr/>
          </p:nvPicPr>
          <p:blipFill>
            <a:blip r:embed="rId5"/>
            <a:stretch/>
          </p:blipFill>
          <p:spPr>
            <a:xfrm>
              <a:off x="7451640" y="4365720"/>
              <a:ext cx="136836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6516720" y="5805360"/>
              <a:ext cx="2087640" cy="244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6" name=""/>
            <p:cNvGraphicFramePr/>
            <p:nvPr/>
          </p:nvGraphicFramePr>
          <p:xfrm>
            <a:off x="685800" y="5334120"/>
            <a:ext cx="193824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5800" y="5334120"/>
                      <a:ext cx="193824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"/>
            <p:cNvGraphicFramePr/>
            <p:nvPr/>
          </p:nvGraphicFramePr>
          <p:xfrm>
            <a:off x="539640" y="1484280"/>
            <a:ext cx="1609920" cy="480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640" y="1484280"/>
                      <a:ext cx="16099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3708360" y="5589720"/>
            <a:ext cx="2286000" cy="569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08360" y="5589720"/>
                      <a:ext cx="228600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6588000" y="1413000"/>
            <a:ext cx="2406600" cy="436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8000" y="1413000"/>
                      <a:ext cx="2406600" cy="43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4500720" y="2997360"/>
            <a:ext cx="1361880" cy="647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00720" y="2997360"/>
                      <a:ext cx="136188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6948360" y="2205000"/>
            <a:ext cx="1257480" cy="596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948360" y="2205000"/>
                      <a:ext cx="12574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2916360" y="3933720"/>
            <a:ext cx="1657080" cy="514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916360" y="3933720"/>
                      <a:ext cx="165708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2195640" y="2492280"/>
              <a:ext cx="2016000" cy="6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684360" y="2060640"/>
              <a:ext cx="1419120" cy="20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Lexmark - Passion for printing ideas.">
              <a:hlinkClick r:id="rId23"/>
            </p:cNvPr>
            <p:cNvPicPr/>
            <p:nvPr/>
          </p:nvPicPr>
          <p:blipFill>
            <a:blip r:embed="rId24"/>
            <a:stretch/>
          </p:blipFill>
          <p:spPr>
            <a:xfrm>
              <a:off x="4284720" y="1557360"/>
              <a:ext cx="21603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5"/>
            <a:stretch/>
          </p:blipFill>
          <p:spPr>
            <a:xfrm>
              <a:off x="6156360" y="3213000"/>
              <a:ext cx="208764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6"/>
            <a:stretch/>
          </p:blipFill>
          <p:spPr>
            <a:xfrm>
              <a:off x="3492360" y="4724280"/>
              <a:ext cx="1800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7"/>
            <a:stretch/>
          </p:blipFill>
          <p:spPr>
            <a:xfrm>
              <a:off x="395280" y="6093000"/>
              <a:ext cx="274320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8"/>
            <a:stretch/>
          </p:blipFill>
          <p:spPr>
            <a:xfrm>
              <a:off x="2700360" y="1557360"/>
              <a:ext cx="11905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958080" y="1341360"/>
          <a:ext cx="218592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341360"/>
                    <a:ext cx="218592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92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exmark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 of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 Drive more revenue through better relationship management &amp; competitive intellig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ckland Hotel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el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Drive more revenue through more effective relationship building, better service and global coord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Zurich Insuranc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e and Insurance – Multiple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 Drive more revenue through more effective prospecting and target marketing as a result of increased visibility of prospect &amp; customer data shared by multiple corporate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5228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858920" y="260280"/>
            <a:ext cx="3970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ample Implement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763640" y="1413000"/>
          <a:ext cx="5400720" cy="50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13000"/>
                    <a:ext cx="5400720" cy="50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58080" y="3657600"/>
          <a:ext cx="218592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3657600"/>
                    <a:ext cx="218592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verview &amp; Solutions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monstra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! for Notes &amp;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958080" y="3657600"/>
          <a:ext cx="218592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3657600"/>
                    <a:ext cx="218592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nded in 1995, headquartered in New Yor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ercial software expertis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! for Note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yman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Intranet Starter Pac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roo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i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X:Ag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The Vendor G2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The Distributor GL Compu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1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Founded in 1989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Sole distributor for ACT! For Notes (Asia Pac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Specialist in Contact Management and Sales Force Automation solutions using ACT! 2000 and ACT! For Lotus No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Organises Custom Development and Train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Supports and trains resell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3392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The Indust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1557360"/>
            <a:ext cx="565776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stomer Relationship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ebel, PeopleSoft, Baan,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98920" y="2687760"/>
            <a:ext cx="5657760" cy="1252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ales and Marketing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T! For Notes,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alesLog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98920" y="4005360"/>
            <a:ext cx="5657760" cy="1067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tact Managem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T! For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98920" y="5175360"/>
            <a:ext cx="565776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ersonal Information 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utlook, Lotus Organi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680" y="1700280"/>
            <a:ext cx="1701720" cy="4465440"/>
          </a:xfrm>
          <a:prstGeom prst="upArrow">
            <a:avLst>
              <a:gd name="adj1" fmla="val 50000"/>
              <a:gd name="adj2" fmla="val 65602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92428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94172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429408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 Black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58972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357336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Industry Future Looks Go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1427040"/>
            <a:ext cx="5905440" cy="4629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6021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Times New Roman"/>
              </a:rPr>
              <a:t>Australian Reseller News – April 17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rected solution, less complex user interf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less disruptive, introduced incrementall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effective - ¼ of the cost to deploy / maintai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- ¼ the time to deploy / oper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 - the core features that revenue producers us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- fits corporate / industry require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bility - to all required business process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experienced local consultants, integrators and train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850920" y="189000"/>
            <a:ext cx="5041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</a:rPr>
              <a:t>Why ACT! for Notes Projects Succeed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8600" y="2905920"/>
            <a:ext cx="2769840" cy="1166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067280" y="1484280"/>
            <a:ext cx="4572000" cy="4357440"/>
            <a:chOff x="4067280" y="1484280"/>
            <a:chExt cx="4572000" cy="4357440"/>
          </a:xfrm>
        </p:grpSpPr>
        <p:sp>
          <p:nvSpPr>
            <p:cNvPr id="87" name=""/>
            <p:cNvSpPr/>
            <p:nvPr/>
          </p:nvSpPr>
          <p:spPr>
            <a:xfrm>
              <a:off x="4067280" y="1484280"/>
              <a:ext cx="4572000" cy="4357440"/>
            </a:xfrm>
            <a:prstGeom prst="ellipse">
              <a:avLst/>
            </a:prstGeom>
            <a:solidFill>
              <a:srgbClr val="006699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372200" y="1623960"/>
              <a:ext cx="3962520" cy="3927240"/>
              <a:chOff x="4372200" y="1623960"/>
              <a:chExt cx="3962520" cy="3927240"/>
            </a:xfrm>
          </p:grpSpPr>
          <p:sp>
            <p:nvSpPr>
              <p:cNvPr id="89" name=""/>
              <p:cNvSpPr/>
              <p:nvPr/>
            </p:nvSpPr>
            <p:spPr>
              <a:xfrm>
                <a:off x="6261480" y="3639960"/>
                <a:ext cx="183960" cy="6969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72200" y="2046240"/>
                <a:ext cx="3962520" cy="3504960"/>
              </a:xfrm>
              <a:prstGeom prst="ellipse">
                <a:avLst/>
              </a:prstGeom>
              <a:solidFill>
                <a:srgbClr val="006699"/>
              </a:solidFill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91240" y="2655720"/>
                <a:ext cx="3124440" cy="2514600"/>
              </a:xfrm>
              <a:prstGeom prst="ellipse">
                <a:avLst/>
              </a:prstGeom>
              <a:solidFill>
                <a:srgbClr val="006699"/>
              </a:solidFill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45320" y="3492000"/>
                <a:ext cx="2817720" cy="1166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elationshi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Manage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14240" y="2933640"/>
                <a:ext cx="210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stomiz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15920" y="1623960"/>
                <a:ext cx="14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Workf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68040" y="2171520"/>
                <a:ext cx="162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Integr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0" y="5877000"/>
            <a:ext cx="9144000" cy="533160"/>
            <a:chOff x="0" y="5877000"/>
            <a:chExt cx="9144000" cy="533160"/>
          </a:xfrm>
        </p:grpSpPr>
        <p:sp>
          <p:nvSpPr>
            <p:cNvPr id="97" name=""/>
            <p:cNvSpPr/>
            <p:nvPr/>
          </p:nvSpPr>
          <p:spPr>
            <a:xfrm>
              <a:off x="0" y="5877000"/>
              <a:ext cx="9144000" cy="53316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84960" y="5967000"/>
              <a:ext cx="719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lationship Management + Business Process Automation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09480" y="441972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T!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tus Notes™ allow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nabling Sales Force Integr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486400" y="2666880"/>
          <a:ext cx="365760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365760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ill core capabilit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stomise to client require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verage existing invest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vide open archite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lve problems incrementall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Appro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21:06:21Z</dcterms:created>
  <dc:creator>Mike Lazarus</dc:creator>
  <dc:description/>
  <dc:language>en-US</dc:language>
  <cp:lastModifiedBy>Michael Lazarus</cp:lastModifiedBy>
  <dcterms:modified xsi:type="dcterms:W3CDTF">2002-06-05T00:24:15Z</dcterms:modified>
  <cp:revision>850</cp:revision>
  <dc:subject/>
  <dc:title>ACT! for Notes</dc:title>
</cp:coreProperties>
</file>