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7C79-1808-4698-98AB-6DC9DC7C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082-8A5F-487F-BC48-529C1DC9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725400"/>
            <a:ext cx="4552920" cy="3414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5960" y="4368960"/>
            <a:ext cx="5086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have been able to apply our approach in many diverse companies.  3 specific examples highlight the success of our proven method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2X is a well established company focused on relationship based application development and implementation support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of our offering is helping our customers manage relationships and streamline business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development team is impressive, and through the successful delivery of various focused solutions, we have developed 3 commercial grad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xperience has resulted in expertise in the following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flow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Devl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Sv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ve been successful because our solutions are tailored, cost-effective and sca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many SFA/CRM applications that impose their workflow and overwhelm the end user with extraneous functionality, our approach is to develop very targeted solutions for our custom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unlike typical CRM applications, we can be deployed very quickly, resulting in immediate R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d approach – digest the right am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4145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04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36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0000" y="4145400"/>
            <a:ext cx="250236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219640" y="188640"/>
            <a:ext cx="3610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040" y="414540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19640" y="126360"/>
            <a:ext cx="361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45400"/>
            <a:ext cx="77724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70600"/>
            <a:chOff x="0" y="0"/>
            <a:chExt cx="9156600" cy="68706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56600" cy="6870600"/>
              <a:chOff x="0" y="0"/>
              <a:chExt cx="9156600" cy="6870600"/>
            </a:xfrm>
          </p:grpSpPr>
          <p:pic>
            <p:nvPicPr>
              <p:cNvPr id="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56600" cy="68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2556000" cy="12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260280"/>
                <a:ext cx="2016000" cy="773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7315200" y="6539040"/>
              <a:ext cx="182880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37148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1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cc99"/>
              </a:buClr>
              <a:buSzPct val="125000"/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"/>
          <p:cNvSpPr/>
          <p:nvPr/>
        </p:nvSpPr>
        <p:spPr>
          <a:xfrm>
            <a:off x="37148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9600" y="61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9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hyperlink" Target="http://www.lexmark.com/" TargetMode="External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1.xml"/><Relationship Id="rId3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ACT! 3.0 For Notes R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urning Contacts Into Relationships and Relationships Into Resul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Copyright (C) 2002 – GL Computing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110196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1284120" cy="133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werful &amp; Integrated Schedul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meetings, calls, and “to dos” for themselves or other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N calendar can automatically synchronize with the Notes Mail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apid Deployment &amp; Upda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ly deployed to all local and remot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updates are easily distributed through the template refres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d Sales Operations &amp; IT Support Require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the Lotus Notes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implement, train and support a new technology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ptimized Replic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 the replication technology and procedures already being used by Notes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 to be more efficient and reliable than the synchronization functionality found in other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ase of Integration with other Applic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calable architecture can easily be integrated with othe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1640" y="188640"/>
            <a:ext cx="4257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everage Lotus Notes Invest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181480" y="2666880"/>
          <a:ext cx="396252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666880"/>
                    <a:ext cx="396252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413000"/>
            <a:ext cx="91440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N services available in Asia Pacific can benefit almost every enterprise regardless of size or the industry they se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vailable Servi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492280"/>
            <a:ext cx="45352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ick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ti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tion Integration an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Suitable Marke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47920"/>
            <a:ext cx="8553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with a mobile sales force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excellent replication technology that suits users that may dial in from time to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with more than one offi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replication, Access Control List, document-level security ideal for multi-offic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copy of the databases at their head office with local data only being replicated to the remote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y company running Lotus Notes for e-mail and/or databas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with the Notes calendar, address book and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directly with other Notes datab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data sharing and single point of entry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ypical Indust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809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surance and bank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dware vendo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rtgage assuran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plann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urier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ducational institu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otels and hotel chai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6520" y="1700280"/>
            <a:ext cx="38102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rger accounting practi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holesal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ufactur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uilding compani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vernment department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743880" y="76320"/>
            <a:ext cx="2366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ample AFN Custom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4000" y="1413000"/>
            <a:ext cx="8670600" cy="4994280"/>
            <a:chOff x="324000" y="1413000"/>
            <a:chExt cx="8670600" cy="4994280"/>
          </a:xfrm>
        </p:grpSpPr>
        <p:graphicFrame>
          <p:nvGraphicFramePr>
            <p:cNvPr id="120" name=""/>
            <p:cNvGraphicFramePr/>
            <p:nvPr/>
          </p:nvGraphicFramePr>
          <p:xfrm>
            <a:off x="5715000" y="4495680"/>
            <a:ext cx="1181160" cy="4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4495680"/>
                      <a:ext cx="11811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324000" y="4508640"/>
            <a:ext cx="1828800" cy="43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4508640"/>
                      <a:ext cx="1828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" name="" descr="The Hartford logo"/>
            <p:cNvPicPr/>
            <p:nvPr/>
          </p:nvPicPr>
          <p:blipFill>
            <a:blip r:embed="rId5"/>
            <a:stretch/>
          </p:blipFill>
          <p:spPr>
            <a:xfrm>
              <a:off x="7451640" y="4365720"/>
              <a:ext cx="136836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6516720" y="5805360"/>
              <a:ext cx="2087640" cy="244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6" name=""/>
            <p:cNvGraphicFramePr/>
            <p:nvPr/>
          </p:nvGraphicFramePr>
          <p:xfrm>
            <a:off x="685800" y="5334120"/>
            <a:ext cx="193824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800" y="5334120"/>
                      <a:ext cx="19382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539640" y="1484280"/>
            <a:ext cx="1609920" cy="480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640" y="1484280"/>
                      <a:ext cx="16099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3708360" y="5589720"/>
            <a:ext cx="228600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08360" y="5589720"/>
                      <a:ext cx="22860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6588000" y="1413000"/>
            <a:ext cx="2406600" cy="436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8000" y="1413000"/>
                      <a:ext cx="2406600" cy="43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500720" y="2997360"/>
            <a:ext cx="1361880" cy="647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00720" y="2997360"/>
                      <a:ext cx="13618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6948360" y="2205000"/>
            <a:ext cx="1257480" cy="59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948360" y="2205000"/>
                      <a:ext cx="12574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916360" y="3933720"/>
            <a:ext cx="1657080" cy="514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16360" y="3933720"/>
                      <a:ext cx="165708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195640" y="2492280"/>
              <a:ext cx="2016000" cy="6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684360" y="2060640"/>
              <a:ext cx="141912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Lexmark - Passion for printing ideas.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4284720" y="1557360"/>
              <a:ext cx="21603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5"/>
            <a:stretch/>
          </p:blipFill>
          <p:spPr>
            <a:xfrm>
              <a:off x="6156360" y="3213000"/>
              <a:ext cx="208764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6"/>
            <a:stretch/>
          </p:blipFill>
          <p:spPr>
            <a:xfrm>
              <a:off x="3492360" y="4724280"/>
              <a:ext cx="18003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7"/>
            <a:stretch/>
          </p:blipFill>
          <p:spPr>
            <a:xfrm>
              <a:off x="395280" y="6093000"/>
              <a:ext cx="274320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8"/>
            <a:stretch/>
          </p:blipFill>
          <p:spPr>
            <a:xfrm>
              <a:off x="2700360" y="1557360"/>
              <a:ext cx="11905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958080" y="134136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34136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92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exmar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 of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rive more revenue through better relationship management &amp; competitive intellig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ckland Hotel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el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Drive more revenue through more effective relationship building, better service and global coord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Zurich Insuran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e and Insurance – Multipl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rive more revenue through more effective prospecting and target marketing as a result of increased visibility of prospect &amp; customer data shared by multiple corporate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5228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858920" y="260280"/>
            <a:ext cx="3970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ample Implement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63640" y="1413000"/>
          <a:ext cx="5400720" cy="50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13000"/>
                    <a:ext cx="5400720" cy="50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58080" y="365760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365760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view &amp; Solution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! for Notes &amp;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958080" y="3657600"/>
          <a:ext cx="218592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3657600"/>
                    <a:ext cx="218592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nded in 1995, headquartered in New Y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ercial software expertis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! for Not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yman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Intranet Starter Pac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roo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i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ff9900"/>
              </a:buClr>
              <a:buSzPct val="12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X:Ag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he Vendor G2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The Distributor GL Compu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Founded in 198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ole distributor for ACT! For Notes (Asia Pac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pecialist in Contact Management and Sales Force Automation solutions using ACT! 2000 and ACT! For Lotus No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Organises Custom Development and Train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upports and trains resell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3392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he Indust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557360"/>
            <a:ext cx="565776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stomer Relationship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ebel, PeopleSoft, Baan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98920" y="2687760"/>
            <a:ext cx="5657760" cy="1252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les and Marketing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T! For Notes,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esLog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98920" y="4005360"/>
            <a:ext cx="5657760" cy="1067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act Manage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T! For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98920" y="5175360"/>
            <a:ext cx="565776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ersonal Information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tlook, Lotus Organ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1700280"/>
            <a:ext cx="1701720" cy="4465440"/>
          </a:xfrm>
          <a:prstGeom prst="upArrow">
            <a:avLst>
              <a:gd name="adj1" fmla="val 50000"/>
              <a:gd name="adj2" fmla="val 65602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92428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94172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29408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 Black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58972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573360"/>
            <a:ext cx="1800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Industry Future Looks Go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427040"/>
            <a:ext cx="5905440" cy="4629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6021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Australian Reseller News – April 17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rected solution, less complex user interf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ess disruptive, introduced incremental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effective - ¼ of the cost to deploy / maintai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- ¼ the time to deploy / oper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 - the core features that revenue producers us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- fits corporate / industry requir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bility - to all required business proces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9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perienced local consultants, integrators and train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850920" y="189000"/>
            <a:ext cx="5041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Why ACT! for Notes Projects Succeed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8600" y="2905920"/>
            <a:ext cx="2769840" cy="1166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67280" y="1484280"/>
            <a:ext cx="4572000" cy="4357440"/>
            <a:chOff x="4067280" y="1484280"/>
            <a:chExt cx="4572000" cy="4357440"/>
          </a:xfrm>
        </p:grpSpPr>
        <p:sp>
          <p:nvSpPr>
            <p:cNvPr id="87" name=""/>
            <p:cNvSpPr/>
            <p:nvPr/>
          </p:nvSpPr>
          <p:spPr>
            <a:xfrm>
              <a:off x="4067280" y="1484280"/>
              <a:ext cx="4572000" cy="4357440"/>
            </a:xfrm>
            <a:prstGeom prst="ellipse">
              <a:avLst/>
            </a:prstGeom>
            <a:solidFill>
              <a:srgbClr val="006699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372200" y="1623960"/>
              <a:ext cx="3962520" cy="3927240"/>
              <a:chOff x="4372200" y="1623960"/>
              <a:chExt cx="3962520" cy="3927240"/>
            </a:xfrm>
          </p:grpSpPr>
          <p:sp>
            <p:nvSpPr>
              <p:cNvPr id="89" name=""/>
              <p:cNvSpPr/>
              <p:nvPr/>
            </p:nvSpPr>
            <p:spPr>
              <a:xfrm>
                <a:off x="6261480" y="3639960"/>
                <a:ext cx="183960" cy="6969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72200" y="2046240"/>
                <a:ext cx="3962520" cy="3504960"/>
              </a:xfrm>
              <a:prstGeom prst="ellipse">
                <a:avLst/>
              </a:prstGeom>
              <a:solidFill>
                <a:srgbClr val="006699"/>
              </a:solidFill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1240" y="2655720"/>
                <a:ext cx="3124440" cy="2514600"/>
              </a:xfrm>
              <a:prstGeom prst="ellipse">
                <a:avLst/>
              </a:prstGeom>
              <a:solidFill>
                <a:srgbClr val="006699"/>
              </a:solidFill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45320" y="3492000"/>
                <a:ext cx="2817720" cy="1166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elationsh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14240" y="2933640"/>
                <a:ext cx="210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stomiz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15920" y="162396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orkf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68040" y="2171520"/>
                <a:ext cx="162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Integ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0" y="5877000"/>
            <a:ext cx="9144000" cy="533160"/>
            <a:chOff x="0" y="5877000"/>
            <a:chExt cx="9144000" cy="533160"/>
          </a:xfrm>
        </p:grpSpPr>
        <p:sp>
          <p:nvSpPr>
            <p:cNvPr id="97" name=""/>
            <p:cNvSpPr/>
            <p:nvPr/>
          </p:nvSpPr>
          <p:spPr>
            <a:xfrm>
              <a:off x="0" y="5877000"/>
              <a:ext cx="9144000" cy="5331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84960" y="5967000"/>
              <a:ext cx="719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lationship Management + Business Process Automation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41972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T!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tus Notes™ allow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nabling Sales Force Integ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486400" y="2666880"/>
          <a:ext cx="365760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365760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ill core capabil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stomise to client requir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verage existing invest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vide open archite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400"/>
              </a:spcAft>
              <a:buClr>
                <a:srgbClr val="006666"/>
              </a:buClr>
              <a:buSzPct val="12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lve problems incremental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219640" y="188640"/>
            <a:ext cx="36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Appro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21:06:21Z</dcterms:created>
  <dc:creator>Mike Lazarus</dc:creator>
  <dc:description/>
  <dc:language>en-US</dc:language>
  <cp:lastModifiedBy>Michael Lazarus</cp:lastModifiedBy>
  <dcterms:modified xsi:type="dcterms:W3CDTF">2002-06-05T00:24:15Z</dcterms:modified>
  <cp:revision>850</cp:revision>
  <dc:subject/>
  <dc:title>ACT! for Notes</dc:title>
</cp:coreProperties>
</file>