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6.png" ContentType="image/png"/>
  <Override PartName="/ppt/media/image14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5.wmf" ContentType="image/x-wmf"/>
  <Override PartName="/ppt/media/image29.jpeg" ContentType="image/jpeg"/>
  <Override PartName="/ppt/media/image30.png" ContentType="image/png"/>
  <Override PartName="/ppt/media/image8.jpeg" ContentType="image/jpeg"/>
  <Override PartName="/ppt/media/image38.png" ContentType="image/png"/>
  <Override PartName="/ppt/media/image36.jpeg" ContentType="image/jpeg"/>
  <Override PartName="/ppt/media/image28.png" ContentType="image/png"/>
  <Override PartName="/ppt/media/image7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4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2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35.jpeg" ContentType="image/jpe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6EF5-5591-4ED9-AAB2-4F22CAAB4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11E6-6F95-468B-A190-4013E13CF21D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5180-D2C6-4440-85A2-D01056CB6CBD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03A1-BECE-4320-858D-2472E1FD2CB9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A189-4748-41D7-A805-92B8D582FD89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B23F-DB56-47D2-BF54-B886F31AC991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783A-3506-4BA3-8280-5A6A04BD6C8E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EDD1-54BB-41DD-BAB8-6F125E879090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74680" y="693720"/>
            <a:ext cx="4513320" cy="33847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09560"/>
            <a:ext cx="50292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Companies / Industries we’re seeing suc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Fin S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Sales t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5758-69E6-416A-B857-94753874A302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0DF9-796E-4A8B-8540-AEB116C3E509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60B6-F072-4E9B-8C0B-91769CBC7558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7676-0C28-4FFE-8855-4847140CA6EC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track and grow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 contacts, not just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calendar &amp; customer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nt access to complete customer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te access to client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0237-B110-44C5-93E9-439ADA01466E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irst we need to cover some of the history of A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DFAB-133D-4C5C-83AC-2D391A5EE425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F2A9-F47E-4AD7-B4E2-60A3ABED1D41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1644-2F08-48EB-9E2B-2EF6B6B055B6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F14A-6471-44AE-AC9E-16FA089A339E}" type="slidenum">
              <a:rPr b="0" lang="en-US" sz="1200" spc="-1" strike="noStrike">
                <a:solidFill>
                  <a:srgbClr val="ffffff"/>
                </a:solidFill>
                <a:latin typeface="GM Sans 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6B1E-2A59-4AE6-9196-74A5A909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8385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8120" y="3932280"/>
            <a:ext cx="8385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040-0F25-455B-BF2F-2394F62C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81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47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F67B-5CE1-4D77-ACAE-718D3FC3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3120" y="13780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8120" y="13780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8120" y="39322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3120" y="39322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8120" y="39322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110-27EA-49DE-AE3F-0E2E698F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38120" y="1378080"/>
            <a:ext cx="838512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8385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200040" y="507960"/>
            <a:ext cx="5257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81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8120" y="1378080"/>
            <a:ext cx="838512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574-74D4-4A0C-AEC6-1CCEAE07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347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8120" y="3932280"/>
            <a:ext cx="8385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8385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8120" y="3932280"/>
            <a:ext cx="8385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381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347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3120" y="13780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08120" y="13780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38120" y="39322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3120" y="39322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08120" y="39322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2D70-7C36-4EFB-87E2-4BF0D0EC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38120" y="1378080"/>
            <a:ext cx="838512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A944-AF15-4E80-9FC1-6D86201B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8385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886A-29FD-4F1E-B7D0-DEA5C5AB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7FFC-6C52-4C61-BDA4-63803F9B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DBC2-E273-48E3-B8B8-47402BBC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8385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3CB-E791-4740-AA0F-503AC77A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200040" y="507960"/>
            <a:ext cx="5257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53A8-24D4-4615-ACF7-96B14395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381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F734-7991-43CB-9519-ACC2B85F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347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AD4F-EE37-4003-A05B-779929BE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38120" y="3932280"/>
            <a:ext cx="8385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ACDB-FFFD-4817-86DE-2917B250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8385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8120" y="3932280"/>
            <a:ext cx="8385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DB81-285D-403A-997A-CB10CEC3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381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347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31F5-EB7D-4F54-84E1-8073192C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3120" y="13780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08120" y="13780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38120" y="39322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3120" y="39322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08120" y="3932280"/>
            <a:ext cx="26996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A418-449B-4D27-9A92-13A0EA31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3EFC-22B3-4042-8FCC-F33C12AC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9CF-9D8E-457F-B1F6-CD7FB651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00040" y="507960"/>
            <a:ext cx="5257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A48-1287-4CC6-A6CD-151D535D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81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B3FC-8E2A-4CA5-8698-62F3DB70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4720" y="39322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40B-9DD0-40A2-998F-80EC9E9F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4720" y="1378080"/>
            <a:ext cx="40917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8120" y="3932280"/>
            <a:ext cx="8385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53D-CB12-4FE1-962F-5DAAC773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91D8-2748-4833-892C-28248D5EFA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13"/>
          <p:cNvSpPr/>
          <p:nvPr/>
        </p:nvSpPr>
        <p:spPr>
          <a:xfrm>
            <a:off x="1892160" y="952560"/>
            <a:ext cx="723924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8"/>
          <p:cNvGrpSpPr/>
          <p:nvPr/>
        </p:nvGrpSpPr>
        <p:grpSpPr>
          <a:xfrm>
            <a:off x="-4680" y="6523200"/>
            <a:ext cx="7819920" cy="334080"/>
            <a:chOff x="-4680" y="6523200"/>
            <a:chExt cx="7819920" cy="334080"/>
          </a:xfrm>
        </p:grpSpPr>
        <p:sp>
          <p:nvSpPr>
            <p:cNvPr id="43" name="Line 16"/>
            <p:cNvSpPr/>
            <p:nvPr/>
          </p:nvSpPr>
          <p:spPr>
            <a:xfrm flipH="1">
              <a:off x="-4680" y="6849360"/>
              <a:ext cx="78199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sp>
          <p:nvSpPr>
            <p:cNvPr id="44" name="Rectangle 17"/>
            <p:cNvSpPr/>
            <p:nvPr/>
          </p:nvSpPr>
          <p:spPr>
            <a:xfrm rot="10800000">
              <a:off x="-4680" y="6523200"/>
              <a:ext cx="7819920" cy="3340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ffff"/>
                </a:buClr>
                <a:buFont typeface="GM Sans Regular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M Sans Regular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38120" y="1378080"/>
            <a:ext cx="8385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M Sans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M Sans 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M Sans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M Sans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M Sans 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M Sans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M Sans 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M Sans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M Sans 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M Sans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M Sans 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M Sans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1892160" y="952560"/>
            <a:ext cx="723924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  <p:grpSp>
        <p:nvGrpSpPr>
          <p:cNvPr id="48" name="Group 14"/>
          <p:cNvGrpSpPr/>
          <p:nvPr/>
        </p:nvGrpSpPr>
        <p:grpSpPr>
          <a:xfrm>
            <a:off x="0" y="1036800"/>
            <a:ext cx="9144000" cy="132840"/>
            <a:chOff x="0" y="1036800"/>
            <a:chExt cx="9144000" cy="132840"/>
          </a:xfrm>
        </p:grpSpPr>
        <p:sp>
          <p:nvSpPr>
            <p:cNvPr id="49" name="Line 12"/>
            <p:cNvSpPr/>
            <p:nvPr/>
          </p:nvSpPr>
          <p:spPr>
            <a:xfrm>
              <a:off x="0" y="1036800"/>
              <a:ext cx="9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sp>
          <p:nvSpPr>
            <p:cNvPr id="50" name="Rectangle 13"/>
            <p:cNvSpPr/>
            <p:nvPr/>
          </p:nvSpPr>
          <p:spPr>
            <a:xfrm>
              <a:off x="0" y="1046160"/>
              <a:ext cx="9144000" cy="1234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ffff"/>
                </a:buClr>
                <a:buFont typeface="GM Sans Regular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</p:grpSp>
      <p:pic>
        <p:nvPicPr>
          <p:cNvPr id="51" name="Picture 20" descr="GL_Computing_Logo_small"/>
          <p:cNvPicPr/>
          <p:nvPr/>
        </p:nvPicPr>
        <p:blipFill>
          <a:blip r:embed="rId2"/>
          <a:stretch/>
        </p:blipFill>
        <p:spPr>
          <a:xfrm>
            <a:off x="7835760" y="6518160"/>
            <a:ext cx="1308240" cy="33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handheld_contact_logo_2"/>
          <p:cNvPicPr/>
          <p:nvPr/>
        </p:nvPicPr>
        <p:blipFill>
          <a:blip r:embed="rId3"/>
          <a:stretch/>
        </p:blipFill>
        <p:spPr>
          <a:xfrm>
            <a:off x="0" y="0"/>
            <a:ext cx="2284560" cy="9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8" descr="GL_Computing_Logo_small"/>
          <p:cNvPicPr/>
          <p:nvPr/>
        </p:nvPicPr>
        <p:blipFill>
          <a:blip r:embed="rId3"/>
          <a:stretch/>
        </p:blipFill>
        <p:spPr>
          <a:xfrm>
            <a:off x="7070760" y="6321600"/>
            <a:ext cx="2073240" cy="536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handheld_contact_logo_2"/>
          <p:cNvPicPr/>
          <p:nvPr/>
        </p:nvPicPr>
        <p:blipFill>
          <a:blip r:embed="rId4"/>
          <a:stretch/>
        </p:blipFill>
        <p:spPr>
          <a:xfrm>
            <a:off x="7191360" y="0"/>
            <a:ext cx="1952640" cy="777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921E-41C2-40CE-B605-761034A5A1B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5.wmf"/><Relationship Id="rId8" Type="http://schemas.openxmlformats.org/officeDocument/2006/relationships/image" Target="../media/image16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jpeg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Sales@GLComputing.com.au" TargetMode="External"/><Relationship Id="rId2" Type="http://schemas.openxmlformats.org/officeDocument/2006/relationships/hyperlink" Target="http://www.glcomputing.com.au/HHC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6040" y="3995640"/>
            <a:ext cx="8856720" cy="18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ff"/>
                </a:solidFill>
                <a:latin typeface="Arial"/>
              </a:rPr>
              <a:t>Handheld Contact</a:t>
            </a:r>
            <a:br>
              <a:rPr sz="3800"/>
            </a:br>
            <a:r>
              <a:rPr b="0" lang="en-AU" sz="3800" spc="-1" strike="noStrike">
                <a:solidFill>
                  <a:srgbClr val="ffffff"/>
                </a:solidFill>
                <a:latin typeface="Arial"/>
              </a:rPr>
              <a:t>Wireless syncing ACT!</a:t>
            </a:r>
            <a:br>
              <a:rPr sz="3800"/>
            </a:br>
            <a:r>
              <a:rPr b="0" lang="en-AU" sz="3800" spc="-1" strike="noStrike">
                <a:solidFill>
                  <a:srgbClr val="ffffff"/>
                </a:solidFill>
                <a:latin typeface="Arial"/>
              </a:rPr>
              <a:t>Blackberry and Windows Mobile 5/6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6" descr="handheld_contact_logo_2"/>
          <p:cNvPicPr/>
          <p:nvPr/>
        </p:nvPicPr>
        <p:blipFill>
          <a:blip r:embed="rId1"/>
          <a:stretch/>
        </p:blipFill>
        <p:spPr>
          <a:xfrm>
            <a:off x="6678720" y="0"/>
            <a:ext cx="2465280" cy="982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GL_Computing_Logo_small"/>
          <p:cNvPicPr/>
          <p:nvPr/>
        </p:nvPicPr>
        <p:blipFill>
          <a:blip r:embed="rId2"/>
          <a:stretch/>
        </p:blipFill>
        <p:spPr>
          <a:xfrm>
            <a:off x="7054920" y="6316560"/>
            <a:ext cx="2089080" cy="5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M Sans Regular"/>
              </a:rPr>
              <a:t>How HHC Works: 3 Components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grpSp>
        <p:nvGrpSpPr>
          <p:cNvPr id="167" name="Group 25"/>
          <p:cNvGrpSpPr/>
          <p:nvPr/>
        </p:nvGrpSpPr>
        <p:grpSpPr>
          <a:xfrm>
            <a:off x="173520" y="1046880"/>
            <a:ext cx="2523600" cy="4700880"/>
            <a:chOff x="173520" y="1046880"/>
            <a:chExt cx="2523600" cy="4700880"/>
          </a:xfrm>
        </p:grpSpPr>
        <p:pic>
          <p:nvPicPr>
            <p:cNvPr id="168" name="Picture 5" descr="computer_icon copy"/>
            <p:cNvPicPr/>
            <p:nvPr/>
          </p:nvPicPr>
          <p:blipFill>
            <a:blip r:embed="rId1"/>
            <a:srcRect l="0" t="0" r="7587" b="0"/>
            <a:stretch/>
          </p:blipFill>
          <p:spPr>
            <a:xfrm>
              <a:off x="382680" y="1317600"/>
              <a:ext cx="1162080" cy="11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AutoShape 13"/>
            <p:cNvSpPr/>
            <p:nvPr/>
          </p:nvSpPr>
          <p:spPr>
            <a:xfrm>
              <a:off x="225360" y="3530520"/>
              <a:ext cx="2471760" cy="889200"/>
            </a:xfrm>
            <a:prstGeom prst="wedgeRectCallout">
              <a:avLst>
                <a:gd name="adj1" fmla="val -14356"/>
                <a:gd name="adj2" fmla="val -14356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 anchorCtr="1">
              <a:noAutofit/>
            </a:bodyPr>
            <a:p>
              <a:pPr algn="ctr"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Arial"/>
                </a:rPr>
                <a:t>Console for ACT!</a:t>
              </a:r>
              <a:endParaRPr b="0" lang="en-US" sz="2000" spc="-1" strike="noStrike">
                <a:solidFill>
                  <a:srgbClr val="ffffff"/>
                </a:solidFill>
                <a:latin typeface="GM Sans Regular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"/>
                </a:rPr>
                <a:t>“</a:t>
              </a:r>
              <a:r>
                <a:rPr b="0" lang="en-US" sz="1600" spc="-1" strike="noStrike">
                  <a:solidFill>
                    <a:srgbClr val="006699"/>
                  </a:solidFill>
                  <a:latin typeface="Arial"/>
                </a:rPr>
                <a:t>Communicate to ACT!”</a:t>
              </a:r>
              <a:endParaRPr b="0" lang="en-US" sz="16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sp>
          <p:nvSpPr>
            <p:cNvPr id="170" name="Oval 16"/>
            <p:cNvSpPr/>
            <p:nvPr/>
          </p:nvSpPr>
          <p:spPr>
            <a:xfrm>
              <a:off x="173520" y="1046880"/>
              <a:ext cx="565920" cy="5637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8f8f8"/>
                  </a:solidFill>
                  <a:latin typeface="GM Sans Regular"/>
                </a:rPr>
                <a:t>1.</a:t>
              </a:r>
              <a:endParaRPr b="0" lang="en-US" sz="20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sp>
          <p:nvSpPr>
            <p:cNvPr id="171" name="Rectangle 20"/>
            <p:cNvSpPr/>
            <p:nvPr/>
          </p:nvSpPr>
          <p:spPr>
            <a:xfrm>
              <a:off x="257040" y="4595760"/>
              <a:ext cx="226692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Installed On ACT! PC</a:t>
              </a: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Uses ACT! SDK</a:t>
              </a: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Extensive Settings </a:t>
              </a: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“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Sync. Engine”</a:t>
              </a: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</p:grpSp>
      <p:grpSp>
        <p:nvGrpSpPr>
          <p:cNvPr id="172" name="Group 27"/>
          <p:cNvGrpSpPr/>
          <p:nvPr/>
        </p:nvGrpSpPr>
        <p:grpSpPr>
          <a:xfrm>
            <a:off x="5254560" y="1021680"/>
            <a:ext cx="3726000" cy="5088240"/>
            <a:chOff x="5254560" y="1021680"/>
            <a:chExt cx="3726000" cy="5088240"/>
          </a:xfrm>
        </p:grpSpPr>
        <p:sp>
          <p:nvSpPr>
            <p:cNvPr id="173" name="Line 3"/>
            <p:cNvSpPr/>
            <p:nvPr/>
          </p:nvSpPr>
          <p:spPr>
            <a:xfrm>
              <a:off x="5254560" y="1809720"/>
              <a:ext cx="227988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pic>
          <p:nvPicPr>
            <p:cNvPr id="174" name="Picture 8" descr="tower_icon"/>
            <p:cNvPicPr/>
            <p:nvPr/>
          </p:nvPicPr>
          <p:blipFill>
            <a:blip r:embed="rId2"/>
            <a:stretch/>
          </p:blipFill>
          <p:spPr>
            <a:xfrm>
              <a:off x="6026040" y="1393920"/>
              <a:ext cx="81288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2" descr="bb_icon"/>
            <p:cNvPicPr/>
            <p:nvPr/>
          </p:nvPicPr>
          <p:blipFill>
            <a:blip r:embed="rId3"/>
            <a:stretch/>
          </p:blipFill>
          <p:spPr>
            <a:xfrm>
              <a:off x="7667640" y="1452600"/>
              <a:ext cx="8762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AutoShape 14"/>
            <p:cNvSpPr/>
            <p:nvPr/>
          </p:nvSpPr>
          <p:spPr>
            <a:xfrm>
              <a:off x="6008760" y="3556080"/>
              <a:ext cx="2570040" cy="850680"/>
            </a:xfrm>
            <a:prstGeom prst="wedgeRectCallout">
              <a:avLst>
                <a:gd name="adj1" fmla="val 27453"/>
                <a:gd name="adj2" fmla="val -10261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 anchorCtr="1">
              <a:noAutofit/>
            </a:bodyPr>
            <a:p>
              <a:pPr algn="ctr"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Arial"/>
                </a:rPr>
                <a:t>Client Software</a:t>
              </a:r>
              <a:endParaRPr b="0" lang="en-US" sz="2000" spc="-1" strike="noStrike">
                <a:solidFill>
                  <a:srgbClr val="ffffff"/>
                </a:solidFill>
                <a:latin typeface="GM Sans Regular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"/>
                </a:rPr>
                <a:t>“</a:t>
              </a:r>
              <a:r>
                <a:rPr b="0" lang="en-US" sz="1600" spc="-1" strike="noStrike">
                  <a:solidFill>
                    <a:srgbClr val="006699"/>
                  </a:solidFill>
                  <a:latin typeface="Arial"/>
                </a:rPr>
                <a:t>ACT! on the Handheld”</a:t>
              </a:r>
              <a:endParaRPr b="0" lang="en-US" sz="16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sp>
          <p:nvSpPr>
            <p:cNvPr id="177" name="Oval 18"/>
            <p:cNvSpPr/>
            <p:nvPr/>
          </p:nvSpPr>
          <p:spPr>
            <a:xfrm>
              <a:off x="8219880" y="1021680"/>
              <a:ext cx="565200" cy="5637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8f8f8"/>
                  </a:solidFill>
                  <a:latin typeface="GM Sans Regular"/>
                </a:rPr>
                <a:t>3.</a:t>
              </a:r>
              <a:endParaRPr b="0" lang="en-US" sz="20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sp>
          <p:nvSpPr>
            <p:cNvPr id="178" name="Text Box 19"/>
            <p:cNvSpPr/>
            <p:nvPr/>
          </p:nvSpPr>
          <p:spPr>
            <a:xfrm>
              <a:off x="7110360" y="2643120"/>
              <a:ext cx="1870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Java Client</a:t>
              </a:r>
              <a:endParaRPr b="0" lang="en-US" sz="1300" spc="-1" strike="noStrike">
                <a:solidFill>
                  <a:srgbClr val="ffffff"/>
                </a:solidFill>
                <a:latin typeface="GM Sans Regu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3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sp>
          <p:nvSpPr>
            <p:cNvPr id="179" name="Rectangle 21"/>
            <p:cNvSpPr/>
            <p:nvPr/>
          </p:nvSpPr>
          <p:spPr>
            <a:xfrm>
              <a:off x="6107040" y="4595760"/>
              <a:ext cx="2266920" cy="15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Installed On Handheld Blackberry / PocketPC</a:t>
              </a: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Java software</a:t>
              </a: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Adds ACT! experience to the PDA</a:t>
              </a: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</p:grpSp>
      <p:grpSp>
        <p:nvGrpSpPr>
          <p:cNvPr id="180" name="Group 26"/>
          <p:cNvGrpSpPr/>
          <p:nvPr/>
        </p:nvGrpSpPr>
        <p:grpSpPr>
          <a:xfrm>
            <a:off x="1523880" y="1046880"/>
            <a:ext cx="4291200" cy="4726440"/>
            <a:chOff x="1523880" y="1046880"/>
            <a:chExt cx="4291200" cy="4726440"/>
          </a:xfrm>
        </p:grpSpPr>
        <p:sp>
          <p:nvSpPr>
            <p:cNvPr id="181" name="Line 4"/>
            <p:cNvSpPr/>
            <p:nvPr/>
          </p:nvSpPr>
          <p:spPr>
            <a:xfrm>
              <a:off x="1523880" y="1809720"/>
              <a:ext cx="2497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pic>
          <p:nvPicPr>
            <p:cNvPr id="182" name="Picture 6" descr="internet_icon"/>
            <p:cNvPicPr/>
            <p:nvPr/>
          </p:nvPicPr>
          <p:blipFill>
            <a:blip r:embed="rId4"/>
            <a:stretch/>
          </p:blipFill>
          <p:spPr>
            <a:xfrm>
              <a:off x="2130480" y="1593720"/>
              <a:ext cx="133344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7" descr="server_icon"/>
            <p:cNvPicPr/>
            <p:nvPr/>
          </p:nvPicPr>
          <p:blipFill>
            <a:blip r:embed="rId5"/>
            <a:stretch/>
          </p:blipFill>
          <p:spPr>
            <a:xfrm>
              <a:off x="4276800" y="1425600"/>
              <a:ext cx="876240" cy="1270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84" name="Object 9"/>
            <p:cNvGraphicFramePr/>
            <p:nvPr/>
          </p:nvGraphicFramePr>
          <p:xfrm>
            <a:off x="1671480" y="1922400"/>
            <a:ext cx="257400" cy="406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5" name="Object 9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671480" y="1922400"/>
                      <a:ext cx="25740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86" name="Picture 10" descr=""/>
            <p:cNvPicPr/>
            <p:nvPr/>
          </p:nvPicPr>
          <p:blipFill>
            <a:blip r:embed="rId8"/>
            <a:srcRect l="67452" t="64242" r="24220" b="22572"/>
            <a:stretch/>
          </p:blipFill>
          <p:spPr>
            <a:xfrm>
              <a:off x="5038560" y="2268360"/>
              <a:ext cx="390600" cy="462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aphicFrame>
          <p:nvGraphicFramePr>
            <p:cNvPr id="187" name="Object 11"/>
            <p:cNvGraphicFramePr/>
            <p:nvPr/>
          </p:nvGraphicFramePr>
          <p:xfrm>
            <a:off x="3595680" y="1924200"/>
            <a:ext cx="257040" cy="406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8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95680" y="1924200"/>
                      <a:ext cx="257040" cy="40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AutoShape 15"/>
            <p:cNvSpPr/>
            <p:nvPr/>
          </p:nvSpPr>
          <p:spPr>
            <a:xfrm>
              <a:off x="3143160" y="3543480"/>
              <a:ext cx="2671920" cy="880920"/>
            </a:xfrm>
            <a:prstGeom prst="wedgeRectCallout">
              <a:avLst>
                <a:gd name="adj1" fmla="val 9356"/>
                <a:gd name="adj2" fmla="val -13396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 anchorCtr="1">
              <a:noAutofit/>
            </a:bodyPr>
            <a:p>
              <a:pPr algn="ctr"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Arial"/>
                </a:rPr>
                <a:t>Secure Sync Server</a:t>
              </a:r>
              <a:endParaRPr b="0" lang="en-US" sz="2000" spc="-1" strike="noStrike">
                <a:solidFill>
                  <a:srgbClr val="ffffff"/>
                </a:solidFill>
                <a:latin typeface="GM Sans Regular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"/>
                </a:rPr>
                <a:t>“</a:t>
              </a:r>
              <a:r>
                <a:rPr b="0" lang="en-US" sz="1600" spc="-1" strike="noStrike">
                  <a:solidFill>
                    <a:srgbClr val="006699"/>
                  </a:solidFill>
                  <a:latin typeface="Arial"/>
                </a:rPr>
                <a:t>Store and Forward”</a:t>
              </a:r>
              <a:endParaRPr b="0" lang="en-US" sz="16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sp>
          <p:nvSpPr>
            <p:cNvPr id="190" name="Oval 17"/>
            <p:cNvSpPr/>
            <p:nvPr/>
          </p:nvSpPr>
          <p:spPr>
            <a:xfrm>
              <a:off x="4384440" y="1046880"/>
              <a:ext cx="565200" cy="5637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8f8f8"/>
                  </a:solidFill>
                  <a:latin typeface="GM Sans Regular"/>
                </a:rPr>
                <a:t>2.</a:t>
              </a:r>
              <a:endParaRPr b="0" lang="en-US" sz="20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sp>
          <p:nvSpPr>
            <p:cNvPr id="191" name="Rectangle 22"/>
            <p:cNvSpPr/>
            <p:nvPr/>
          </p:nvSpPr>
          <p:spPr>
            <a:xfrm>
              <a:off x="2610000" y="2441520"/>
              <a:ext cx="1226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6040" indent="-176040"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</a:rPr>
                <a:t>Secure internet connection</a:t>
              </a:r>
              <a:endParaRPr b="0" lang="en-US" sz="10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  <p:sp>
          <p:nvSpPr>
            <p:cNvPr id="192" name="Rectangle 24"/>
            <p:cNvSpPr/>
            <p:nvPr/>
          </p:nvSpPr>
          <p:spPr>
            <a:xfrm>
              <a:off x="3319560" y="4621320"/>
              <a:ext cx="226692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HHC Account</a:t>
              </a: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Secure (SSL)</a:t>
              </a: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Hosted = affordable</a:t>
              </a: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  <a:p>
              <a:pPr marL="176040" indent="-176040">
                <a:lnSpc>
                  <a:spcPct val="85000"/>
                </a:lnSpc>
                <a:spcBef>
                  <a:spcPts val="876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Store, forward, </a:t>
              </a:r>
              <a:r>
                <a:rPr b="1" lang="en-US" sz="1400" spc="-1" strike="noStrike" u="sng">
                  <a:solidFill>
                    <a:srgbClr val="000099"/>
                  </a:solidFill>
                  <a:uFillTx/>
                  <a:latin typeface="Arial"/>
                </a:rPr>
                <a:t>erase</a:t>
              </a:r>
              <a:endParaRPr b="0" lang="en-US" sz="1400" spc="-1" strike="noStrike">
                <a:solidFill>
                  <a:srgbClr val="ffffff"/>
                </a:solidFill>
                <a:latin typeface="GM Sans Regula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M Sans Regular"/>
              </a:rPr>
              <a:t>HHC Console for ACT!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pic>
        <p:nvPicPr>
          <p:cNvPr id="194" name="Picture 4" descr="HHC-screen"/>
          <p:cNvPicPr/>
          <p:nvPr/>
        </p:nvPicPr>
        <p:blipFill>
          <a:blip r:embed="rId1"/>
          <a:stretch/>
        </p:blipFill>
        <p:spPr>
          <a:xfrm>
            <a:off x="182520" y="1301760"/>
            <a:ext cx="6211800" cy="3803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HHC-Groups"/>
          <p:cNvPicPr/>
          <p:nvPr/>
        </p:nvPicPr>
        <p:blipFill>
          <a:blip r:embed="rId2"/>
          <a:stretch/>
        </p:blipFill>
        <p:spPr>
          <a:xfrm>
            <a:off x="6610320" y="1571760"/>
            <a:ext cx="2336760" cy="2047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HHC-Fields"/>
          <p:cNvPicPr/>
          <p:nvPr/>
        </p:nvPicPr>
        <p:blipFill>
          <a:blip r:embed="rId3"/>
          <a:stretch/>
        </p:blipFill>
        <p:spPr>
          <a:xfrm>
            <a:off x="4660920" y="3801960"/>
            <a:ext cx="405432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82200" y="126684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acts 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3645000" y="123984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endar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M Sans Regular"/>
              </a:rPr>
              <a:t>HHC 2.0 for Blackberry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pic>
        <p:nvPicPr>
          <p:cNvPr id="200" name="Picture 9" descr="main"/>
          <p:cNvPicPr/>
          <p:nvPr/>
        </p:nvPicPr>
        <p:blipFill>
          <a:blip r:embed="rId1"/>
          <a:stretch/>
        </p:blipFill>
        <p:spPr>
          <a:xfrm>
            <a:off x="158760" y="1816200"/>
            <a:ext cx="2760480" cy="2070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main-popup"/>
          <p:cNvPicPr/>
          <p:nvPr/>
        </p:nvPicPr>
        <p:blipFill>
          <a:blip r:embed="rId2"/>
          <a:stretch/>
        </p:blipFill>
        <p:spPr>
          <a:xfrm>
            <a:off x="163440" y="4030560"/>
            <a:ext cx="2800440" cy="2100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calendar-day-view"/>
          <p:cNvPicPr/>
          <p:nvPr/>
        </p:nvPicPr>
        <p:blipFill>
          <a:blip r:embed="rId3"/>
          <a:stretch/>
        </p:blipFill>
        <p:spPr>
          <a:xfrm>
            <a:off x="3156120" y="1817640"/>
            <a:ext cx="2757240" cy="2068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calendar-week-view-alarm-pr"/>
          <p:cNvPicPr/>
          <p:nvPr/>
        </p:nvPicPr>
        <p:blipFill>
          <a:blip r:embed="rId4"/>
          <a:stretch/>
        </p:blipFill>
        <p:spPr>
          <a:xfrm>
            <a:off x="3154320" y="4062240"/>
            <a:ext cx="2741760" cy="20545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5"/>
          <p:cNvSpPr/>
          <p:nvPr/>
        </p:nvSpPr>
        <p:spPr>
          <a:xfrm>
            <a:off x="7048440" y="125100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sks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</p:txBody>
      </p:sp>
      <p:pic>
        <p:nvPicPr>
          <p:cNvPr id="205" name="Picture 16" descr="task-list"/>
          <p:cNvPicPr/>
          <p:nvPr/>
        </p:nvPicPr>
        <p:blipFill>
          <a:blip r:embed="rId5"/>
          <a:stretch/>
        </p:blipFill>
        <p:spPr>
          <a:xfrm>
            <a:off x="6234120" y="1828800"/>
            <a:ext cx="2754360" cy="2066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" descr="task-list-popup"/>
          <p:cNvPicPr/>
          <p:nvPr/>
        </p:nvPicPr>
        <p:blipFill>
          <a:blip r:embed="rId6"/>
          <a:stretch/>
        </p:blipFill>
        <p:spPr>
          <a:xfrm>
            <a:off x="6245280" y="4044960"/>
            <a:ext cx="277020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M Sans Regular"/>
              </a:rPr>
              <a:t>HHC for Mobile Windows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pic>
        <p:nvPicPr>
          <p:cNvPr id="208" name="Picture 5" descr="contact_search"/>
          <p:cNvPicPr/>
          <p:nvPr/>
        </p:nvPicPr>
        <p:blipFill>
          <a:blip r:embed="rId1"/>
          <a:stretch/>
        </p:blipFill>
        <p:spPr>
          <a:xfrm>
            <a:off x="255600" y="1943280"/>
            <a:ext cx="2610000" cy="4143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tasks_list"/>
          <p:cNvPicPr/>
          <p:nvPr/>
        </p:nvPicPr>
        <p:blipFill>
          <a:blip r:embed="rId2"/>
          <a:stretch/>
        </p:blipFill>
        <p:spPr>
          <a:xfrm>
            <a:off x="6326280" y="1922400"/>
            <a:ext cx="2609640" cy="4143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calendar_month_view"/>
          <p:cNvPicPr/>
          <p:nvPr/>
        </p:nvPicPr>
        <p:blipFill>
          <a:blip r:embed="rId3"/>
          <a:stretch/>
        </p:blipFill>
        <p:spPr>
          <a:xfrm>
            <a:off x="3260880" y="1928880"/>
            <a:ext cx="2609640" cy="41432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9"/>
          <p:cNvSpPr/>
          <p:nvPr/>
        </p:nvSpPr>
        <p:spPr>
          <a:xfrm>
            <a:off x="3546360" y="1344600"/>
            <a:ext cx="203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682200" y="126684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acts 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3645000" y="123984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endar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7048440" y="125100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sks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M Sans Regular"/>
              </a:rPr>
              <a:t>Why Handheld Contact?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4200" y="1263600"/>
            <a:ext cx="874872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ACT!-like UI and terminology to reduce training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Up to 76 fields (26 pre-determined and 50 user definable)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Pull-downs for fields optionally sent to maintain data integrity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Notes, Histories, Activities created on device link to ACT! Contacts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Emails, Calls, SMS from device - history automatically tracked and synced to ACT! when sent from Handheld Contact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View (if allowed) and Schedule activities for other ACT! users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Administration determines which groups of contacts to be sent to each users’ device including private contacts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Automatically send contacts to a user when an activity is scheduled for them, even if the contact was not in their predefined set to receive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Central Administration of 50+ devices (even different types) to support use in workgroups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Ability for Administrator to erase ACT! data remotely if device is lost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The only ACT! wireless sync for Blackberry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The only PDA solution that works with Web based solutions for ACT!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246240" y="1378080"/>
            <a:ext cx="497520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M Sans Regular"/>
              </a:rPr>
              <a:t>Small Business mobile staff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marL="122400" indent="-122400"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M Sans Regular"/>
              </a:rPr>
              <a:t>Mobile Sales Teams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marL="122400" indent="-122400"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M Sans Regular"/>
              </a:rPr>
              <a:t>Financial Services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lvl="1" marL="4572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M Sans Regular"/>
                <a:ea typeface="Times New Roman"/>
              </a:rPr>
              <a:t>Investment Advisors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lvl="1" marL="4572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M Sans Regular"/>
                <a:ea typeface="Times New Roman"/>
              </a:rPr>
              <a:t>Mortgage Brokers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marL="122400" indent="-122400"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M Sans Regular"/>
              </a:rPr>
              <a:t>Real Estate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marL="122400" indent="-122400"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M Sans Regular"/>
              </a:rPr>
              <a:t>Commercial Property Management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marL="122400" indent="-122400"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M Sans Regular"/>
              </a:rPr>
              <a:t>Construction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marL="122400" indent="-122400"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M Sans Regular"/>
              </a:rPr>
              <a:t>Legal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marL="122400" indent="-122400"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M Sans Regular"/>
              </a:rPr>
              <a:t>Recruitment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marL="122400" indent="-122400"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M Sans Regular"/>
              </a:rPr>
              <a:t>Field Service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marL="122400" indent="-122400">
              <a:spcAft>
                <a:spcPts val="624"/>
              </a:spcAft>
              <a:buClr>
                <a:srgbClr val="000000"/>
              </a:buClr>
              <a:buFont typeface="GM Sans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M Sans Regular"/>
              </a:rPr>
              <a:t>Plumbers and other trades people</a:t>
            </a: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  <a:p>
            <a:pPr marL="122400" indent="-122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M Sans Regular"/>
            </a:endParaRPr>
          </a:p>
        </p:txBody>
      </p:sp>
      <p:pic>
        <p:nvPicPr>
          <p:cNvPr id="218" name="Picture 5" descr="ml"/>
          <p:cNvPicPr/>
          <p:nvPr/>
        </p:nvPicPr>
        <p:blipFill>
          <a:blip r:embed="rId1"/>
          <a:srcRect l="2381" t="57798" r="70785" b="5568"/>
          <a:stretch/>
        </p:blipFill>
        <p:spPr>
          <a:xfrm>
            <a:off x="4038480" y="1676520"/>
            <a:ext cx="1676520" cy="446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inova_logo"/>
          <p:cNvPicPr/>
          <p:nvPr/>
        </p:nvPicPr>
        <p:blipFill>
          <a:blip r:embed="rId2"/>
          <a:stretch/>
        </p:blipFill>
        <p:spPr>
          <a:xfrm>
            <a:off x="7539120" y="3774960"/>
            <a:ext cx="838080" cy="459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fr_logo"/>
          <p:cNvPicPr/>
          <p:nvPr/>
        </p:nvPicPr>
        <p:blipFill>
          <a:blip r:embed="rId3"/>
          <a:stretch/>
        </p:blipFill>
        <p:spPr>
          <a:xfrm>
            <a:off x="7246800" y="1362240"/>
            <a:ext cx="1067040" cy="558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jwhlogo"/>
          <p:cNvPicPr/>
          <p:nvPr/>
        </p:nvPicPr>
        <p:blipFill>
          <a:blip r:embed="rId4"/>
          <a:srcRect l="0" t="-815" r="-1031" b="19518"/>
          <a:stretch/>
        </p:blipFill>
        <p:spPr>
          <a:xfrm>
            <a:off x="6039000" y="1463760"/>
            <a:ext cx="838080" cy="592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"/>
          <p:cNvPicPr/>
          <p:nvPr/>
        </p:nvPicPr>
        <p:blipFill>
          <a:blip r:embed="rId5"/>
          <a:srcRect l="732" t="83663" r="44526" b="7279"/>
          <a:stretch/>
        </p:blipFill>
        <p:spPr>
          <a:xfrm>
            <a:off x="4341960" y="5935680"/>
            <a:ext cx="4343400" cy="434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paccar_header"/>
          <p:cNvPicPr/>
          <p:nvPr/>
        </p:nvPicPr>
        <p:blipFill>
          <a:blip r:embed="rId6"/>
          <a:srcRect l="0" t="0" r="45284" b="0"/>
          <a:stretch/>
        </p:blipFill>
        <p:spPr>
          <a:xfrm>
            <a:off x="5502240" y="4110120"/>
            <a:ext cx="1447920" cy="290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care_medic"/>
          <p:cNvPicPr/>
          <p:nvPr/>
        </p:nvPicPr>
        <p:blipFill>
          <a:blip r:embed="rId7"/>
          <a:stretch/>
        </p:blipFill>
        <p:spPr>
          <a:xfrm>
            <a:off x="3498840" y="3260880"/>
            <a:ext cx="1219320" cy="342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veritrust"/>
          <p:cNvPicPr/>
          <p:nvPr/>
        </p:nvPicPr>
        <p:blipFill>
          <a:blip r:embed="rId8"/>
          <a:srcRect l="12395" t="19244" r="62826" b="19244"/>
          <a:stretch/>
        </p:blipFill>
        <p:spPr>
          <a:xfrm>
            <a:off x="7726320" y="2225520"/>
            <a:ext cx="990720" cy="409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medipro_logo"/>
          <p:cNvPicPr/>
          <p:nvPr/>
        </p:nvPicPr>
        <p:blipFill>
          <a:blip r:embed="rId9"/>
          <a:stretch/>
        </p:blipFill>
        <p:spPr>
          <a:xfrm>
            <a:off x="5546880" y="32734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5" descr="canyon_capital"/>
          <p:cNvPicPr/>
          <p:nvPr/>
        </p:nvPicPr>
        <p:blipFill>
          <a:blip r:embed="rId10"/>
          <a:stretch/>
        </p:blipFill>
        <p:spPr>
          <a:xfrm>
            <a:off x="7351560" y="2925720"/>
            <a:ext cx="1371600" cy="515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6" descr="pwc_logo"/>
          <p:cNvPicPr/>
          <p:nvPr/>
        </p:nvPicPr>
        <p:blipFill>
          <a:blip r:embed="rId11"/>
          <a:stretch/>
        </p:blipFill>
        <p:spPr>
          <a:xfrm>
            <a:off x="3193920" y="4316400"/>
            <a:ext cx="1981440" cy="343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8" descr="john_l_scott"/>
          <p:cNvPicPr/>
          <p:nvPr/>
        </p:nvPicPr>
        <p:blipFill>
          <a:blip r:embed="rId12"/>
          <a:srcRect l="0" t="0" r="76318" b="55016"/>
          <a:stretch/>
        </p:blipFill>
        <p:spPr>
          <a:xfrm>
            <a:off x="4944960" y="4984920"/>
            <a:ext cx="1295640" cy="430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0" descr=""/>
          <p:cNvPicPr/>
          <p:nvPr/>
        </p:nvPicPr>
        <p:blipFill>
          <a:blip r:embed="rId13"/>
          <a:srcRect l="17156" t="27996" r="71116" b="61655"/>
          <a:stretch/>
        </p:blipFill>
        <p:spPr>
          <a:xfrm>
            <a:off x="7467480" y="4770360"/>
            <a:ext cx="114300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1" descr="newman_logo"/>
          <p:cNvPicPr/>
          <p:nvPr/>
        </p:nvPicPr>
        <p:blipFill>
          <a:blip r:embed="rId14"/>
          <a:srcRect l="0" t="35181" r="0" b="0"/>
          <a:stretch/>
        </p:blipFill>
        <p:spPr>
          <a:xfrm>
            <a:off x="4255920" y="2610000"/>
            <a:ext cx="2000520" cy="3333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M Sans Regular"/>
              </a:rPr>
              <a:t>Typical HHC Markets/Users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395080" y="507960"/>
            <a:ext cx="65293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M Sans Regular"/>
              </a:rPr>
              <a:t>Contact Information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76200" y="1359000"/>
            <a:ext cx="833292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M Sans Regular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M Sans Regular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M Sans Regular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M Sans Regular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d4d4d"/>
                </a:solidFill>
                <a:uFillTx/>
                <a:latin typeface="Arial"/>
                <a:ea typeface="Arial"/>
                <a:hlinkClick r:id="rId1"/>
              </a:rPr>
              <a:t>Sales@GLComputing.com.au</a:t>
            </a:r>
            <a:endParaRPr b="0" lang="en-US" sz="1600" spc="-1" strike="noStrike">
              <a:solidFill>
                <a:srgbClr val="ffffff"/>
              </a:solidFill>
              <a:latin typeface="GM Sans Regular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M Sans Regular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d4d4d"/>
                </a:solidFill>
                <a:uFillTx/>
                <a:latin typeface="Arial"/>
                <a:ea typeface="Arial"/>
                <a:hlinkClick r:id="rId2"/>
              </a:rPr>
              <a:t>www.GLComputing.com.au/HHC</a:t>
            </a:r>
            <a:endParaRPr b="0" lang="en-US" sz="1600" spc="-1" strike="noStrike">
              <a:solidFill>
                <a:srgbClr val="ffffff"/>
              </a:solidFill>
              <a:latin typeface="GM Sans Regular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M Sans Regular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35" name="Line 9"/>
          <p:cNvSpPr/>
          <p:nvPr/>
        </p:nvSpPr>
        <p:spPr>
          <a:xfrm>
            <a:off x="258840" y="2606760"/>
            <a:ext cx="858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258840" y="4110120"/>
            <a:ext cx="858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M Sans Regular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46240" y="1822320"/>
            <a:ext cx="39099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o is GL computing</a:t>
            </a: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bout ACT!</a:t>
            </a: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bout Handheld Contact</a:t>
            </a: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HC for Blackberry</a:t>
            </a: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HC for PocketPC/Treo</a:t>
            </a: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to other PDA Options</a:t>
            </a: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Markets</a:t>
            </a: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  <p:pic>
        <p:nvPicPr>
          <p:cNvPr id="144" name="Picture 8" descr="HHC-WirelessSync"/>
          <p:cNvPicPr/>
          <p:nvPr/>
        </p:nvPicPr>
        <p:blipFill>
          <a:blip r:embed="rId1"/>
          <a:stretch/>
        </p:blipFill>
        <p:spPr>
          <a:xfrm>
            <a:off x="4013280" y="1263600"/>
            <a:ext cx="4906800" cy="309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ppc-landscape"/>
          <p:cNvPicPr/>
          <p:nvPr/>
        </p:nvPicPr>
        <p:blipFill>
          <a:blip r:embed="rId2"/>
          <a:stretch/>
        </p:blipFill>
        <p:spPr>
          <a:xfrm>
            <a:off x="6137280" y="4449600"/>
            <a:ext cx="2679840" cy="2035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hhc-cingular-8800-8700"/>
          <p:cNvPicPr/>
          <p:nvPr/>
        </p:nvPicPr>
        <p:blipFill>
          <a:blip r:embed="rId3"/>
          <a:stretch/>
        </p:blipFill>
        <p:spPr>
          <a:xfrm>
            <a:off x="4371840" y="4373640"/>
            <a:ext cx="98928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38120" y="1378080"/>
            <a:ext cx="83851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Value added distributor specialising in Sales and Marketing and CRM software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Distributes to and supports ACT! resellers across Australia, New Zealand, Asia Pacific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Established since 1990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Mike Lazarus - owner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IT since 1982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ACT! Evangelist since 1987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188880" y="48420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M Sans Regular"/>
              </a:rPr>
              <a:t>Who is GL Computing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8920" y="1622160"/>
            <a:ext cx="670572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M Sans Regular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M Sans Regular"/>
              </a:rPr>
              <a:t>ACT! is the best-selling contact management software application used by business professionals whose day revolves around their business contacts.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971640" y="3141720"/>
            <a:ext cx="7632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ustomisable, Secure, Electronic Rolodex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acks data on each contact or company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tworkable Shared Calendar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eep notes, history, sales opportunities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ndles letters, emails, faxes, reports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so much more</a:t>
            </a:r>
            <a:endParaRPr b="0" lang="en-US" sz="2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189240" y="484200"/>
            <a:ext cx="5257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M Sans Regula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M Sans Regular"/>
              </a:rPr>
              <a:t>What is ACT!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pic>
        <p:nvPicPr>
          <p:cNvPr id="153" name="Picture 7" descr="logo_ACT_bySage_blk"/>
          <p:cNvPicPr/>
          <p:nvPr/>
        </p:nvPicPr>
        <p:blipFill>
          <a:blip r:embed="rId1"/>
          <a:stretch/>
        </p:blipFill>
        <p:spPr>
          <a:xfrm>
            <a:off x="6972480" y="1415880"/>
            <a:ext cx="2127240" cy="13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82818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d in April 1987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ioneered Contact Management &amp; CRM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rket Leader - 68% of retail market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 2 million users worldwide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ward Winning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le in many countries and languages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M Sans Regular"/>
              </a:rPr>
              <a:t>ACT! History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38120" y="1377720"/>
            <a:ext cx="8385120" cy="15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ndheld Contact enables administered, two-way, wireless synchronization between ACT! and SmartPhone devices.</a:t>
            </a:r>
            <a:endParaRPr b="0" lang="en-US" sz="3200" spc="-1" strike="noStrike">
              <a:solidFill>
                <a:srgbClr val="000000"/>
              </a:solidFill>
              <a:latin typeface="GM Sans Regular"/>
            </a:endParaRPr>
          </a:p>
        </p:txBody>
      </p:sp>
      <p:pic>
        <p:nvPicPr>
          <p:cNvPr id="157" name="Picture 3" descr="hhc_techiagram_v03"/>
          <p:cNvPicPr/>
          <p:nvPr/>
        </p:nvPicPr>
        <p:blipFill>
          <a:blip r:embed="rId1"/>
          <a:stretch/>
        </p:blipFill>
        <p:spPr>
          <a:xfrm>
            <a:off x="533520" y="3581280"/>
            <a:ext cx="8280360" cy="227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M Sans Regular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GM Sans Regular"/>
              </a:rPr>
              <a:t>What is Handheld Contact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M Sans Regular"/>
              </a:rPr>
              <a:t>Main Features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38120" y="1378080"/>
            <a:ext cx="41148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omatic two-way, wireless syncing between your ACT! database and your Smartphone every 15 minutes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! data storage directly on your handheld device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omatic identification and syncing of your important contacts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stomizable sync settings so YOU (or Admin) determine what is synched and what isn’t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y, week, or month views calendar viewing, activity and task scheduling, and notes and histories logging for calls and emails with automatic time-stamping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8440" y="1378080"/>
            <a:ext cx="41148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! contact calling and emailing with History from your Smartphone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c privileges management for multiple users with the administration console — monitor and change sync settings, and add an unlimited number of users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fully-hosted solution using patent pending technology with all the IT syncing infrastructure you need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e product upgrades and notifications, installation support, and access to toll free and online technical support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38120" y="1378080"/>
            <a:ext cx="83851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s productivity and saves you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M Sans Regula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ss accurate and current ACT! data anytime, anywhere on your mobile device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ew your ACT! Contacts, Calendar Items, Notes, Histories, To-Do Items, and Activities on your device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l and email ACT! contacts from Handheld Contact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! data is synced automatically every 15 minutes so your data is always up-to-date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! data is stored directly on your handheld device so you don’t depend on your cellular coverage for your information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date ACT! data directly from your mobile device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er contacts, schedule activities and tasks, and log notes and histories for emails with automatic time-stamping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ke notes directly in Handheld Contact eliminating the need for pen-and-paper note-taking and redundant data entry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M Sans Regular"/>
              </a:rPr>
              <a:t>What HHC does for you</a:t>
            </a:r>
            <a:endParaRPr b="0" lang="en-US" sz="28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47680" y="1240920"/>
            <a:ext cx="875016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s employee collaboration and data sharing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 sync privileges for multiple users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ntrally monitor and change sync settings and add an unlimited number of users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stomize users’ sync settings so administrator determines what is synced and what isn’t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es employee productivity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es employees’ contacts, time with customers, and time in the field 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ces employees’ dependence on the office with ACT! data directly on their Smartphone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sily integrates with existing infrastructure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sy to install and use with no training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a secure, fully-hosted solution using patent-pending technology with all the IT syncing infrastructure you need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predictable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sures you pay only for the users you need with a subscription model to accommodate your changing business needs without surprises</a:t>
            </a:r>
            <a:endParaRPr b="0" lang="en-US" sz="2000" spc="-1" strike="noStrike">
              <a:solidFill>
                <a:srgbClr val="000000"/>
              </a:solidFill>
              <a:latin typeface="GM Sans Regular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3200040" y="50796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M Sans Regular"/>
              </a:rPr>
              <a:t>What HHC does for your company</a:t>
            </a:r>
            <a:endParaRPr b="0" lang="en-US" sz="2500" spc="-1" strike="noStrike">
              <a:solidFill>
                <a:srgbClr val="000000"/>
              </a:solidFill>
              <a:latin typeface="GM Sans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20:56:26Z</dcterms:created>
  <dc:creator>Mike Lazarus</dc:creator>
  <dc:description/>
  <dc:language>en-US</dc:language>
  <cp:lastModifiedBy>Mike Lazarus</cp:lastModifiedBy>
  <dcterms:modified xsi:type="dcterms:W3CDTF">2007-11-25T11:56:11Z</dcterms:modified>
  <cp:revision>290</cp:revision>
  <dc:subject/>
  <dc:title>HandHeld Contact</dc:title>
</cp:coreProperties>
</file>